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5DB6-E387-4826-9DB5-7ED3EF6E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6994-F077-4BD8-BB42-BF8133E8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8418-8833-48B1-89E8-422E9DF0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6AF3-F29A-4CEA-B728-9C1A86EB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B7E3-DC60-4BAB-983B-1BE846A0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FA1D-8204-4C09-9063-757F9391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0C7C-CF91-4DE1-B17B-0B4089D8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41D6-A669-495A-8019-6EA7D86B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7C7F-BFEF-42E2-98FD-D5AAFDEA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B13C-2E0B-4756-BBA5-B1C4CD1D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80E5-8C76-4C57-9F0B-48D72687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017D-AD92-42AE-A2CF-CE3BC44A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703C-A037-4AE8-A20D-063E7D7D5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BLEAU DES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61722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6172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6172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486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86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54864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800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4800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48006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41148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114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41148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34290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34290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34290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2743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2743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27432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2057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2057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20574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85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om de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erson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6858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o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685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rescrip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cid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6858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ctions à entreprend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1371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1371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13716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6858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État des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ctue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13716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34290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27432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20574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54864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48006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41148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61722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50:09Z</dcterms:modified>
  <cp:revision>70</cp:revision>
  <dc:subject/>
  <dc:title>Contrôle interne des risques</dc:title>
</cp:coreProperties>
</file>